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8B2-FA7D-45EB-A4B0-D88572F1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A2A-FE88-44E9-B864-20CB3EC6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27E-5562-44D2-8972-3C0B9092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004-39DB-4FC9-899A-9DDB7168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BAC9-7DFC-48BE-908E-8989DF1A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A17-9393-4193-8B72-02E2D81B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95C-0A8B-4B5B-91FD-9844FEE9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77F-F7CD-4E75-B96A-B1B97493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F04-4D83-4000-A84B-CABF78F4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260-A0BE-4E36-A023-629EA95B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3F1-D989-45E7-A49C-0BC39BCA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7071-F987-4A57-BA0B-1709D6A0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2CD4-0350-42F2-8DD8-93B7F39EDFB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241720"/>
            <a:ext cx="8640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ه ثمار الإعراض عن الله وهي نار جهنم وبئس المص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5690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168120" y="1434960"/>
            <a:ext cx="865188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547120" cy="122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1274760" y="3141720"/>
            <a:ext cx="761832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1833480" y="4665600"/>
            <a:ext cx="7059600" cy="6350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372096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ؤمن يوفق في الإجابة وينعم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الكافر يخذل ويتردد في الإجابة ويعذب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324000" y="206064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ي أن الإيمان قول باللسان وعمل بالجوارح واعتقاد ب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درجات الإيمان تزيد بعمل الطاعات لله وتنقص بعمل 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5425920" y="5373720"/>
            <a:ext cx="33940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025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836800" y="4830840"/>
            <a:ext cx="360684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833400"/>
            <a:ext cx="8713800" cy="583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5868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كلمة الطيبة وقبح الكلمة القبي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24000" y="1728720"/>
            <a:ext cx="8569080" cy="486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42181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ي لا إله إلا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834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لمة الك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alibri"/>
              </a:rPr>
              <a:t>استؤصل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86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ثب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نجاة لأحد إلا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وائد ضرب الأمث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وسيلة من وسائل الإقناع والإفه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خبث كلمة الكف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هلك صاحبها وتورده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ار كلمة التوحيد العمل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خلاص لله وطاعته واتباع رسول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4491000"/>
            <a:ext cx="8666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تثبيت الله تعالى أهل الإيمان وخذلان أهل الكفر والنفاق إشارة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ه مع الكفار ورحمته بال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84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ثمار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شجرة الطيبة التي لها ثمرات يان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229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نعيم القبر وعذاب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يان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69184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خبيث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82440" y="907920"/>
            <a:ext cx="8977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17:27Z</dcterms:modified>
  <cp:revision>1828</cp:revision>
  <dc:subject/>
  <dc:title>عرض تقديمي في PowerPoint</dc:title>
</cp:coreProperties>
</file>